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853C4-D62A-4419-95BC-B7649028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B0AF9-421B-47CE-B95F-88F757A1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3CFD0-E32F-465A-AAF5-42533C0A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9A051-ECC4-45A4-B1E4-2196F2D6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12A1-1B4C-4841-B58E-F34C28F2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BF43-1A3D-49B2-8DE7-3B98B22B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3CA5-98AC-409D-A029-7D42EED6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15C3-5B68-4F47-BC8E-152C1820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DB21-82DD-4BA8-A440-0A41A945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8A32-DDB3-401E-AEA3-D94AD548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25B5-968B-4D0A-9DFD-E5EA2E7D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2DD2A-9A04-492B-BE44-6260F3DC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0E9C-7223-4D4E-85E7-8A2DB629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FBB5-9E80-4508-A617-21C9A217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5584-CF3B-4927-8BF6-A8A060A7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63B7-84A5-45CA-A210-325EFE8A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CDFA-9134-4E21-A1BA-22C90243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DDF36-E3A3-41A1-A6EF-B56E6FAD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B7E19-7D99-4436-99BC-8B7E445D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28AC9-72CF-493E-B6B0-BD2E60CE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8C5F2-75DA-4EEE-9B5A-A28E2D2D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A3883-3313-444E-9DD7-2025E2FD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0005F-DD5E-4D25-BD5A-4AEDA736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7C780-BF26-4086-BED7-764D41E1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EF8B-8D88-42E9-91B5-B2AAF66EFB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F25E-970F-4E29-A4D2-EF12615642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Reactions in Aqueous Solu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ECD4-C709-405E-BEB9-3D3D0D18F6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4000"/>
            </a:br>
            <a:r>
              <a:rPr b="1" lang="en-GB" sz="4000" spc="-1" strike="noStrike" u="sng">
                <a:solidFill>
                  <a:srgbClr val="00007d"/>
                </a:solidFill>
                <a:uFillTx/>
                <a:latin typeface="Comic Sans MS"/>
              </a:rPr>
              <a:t>Dilution </a:t>
            </a:r>
            <a:r>
              <a:rPr b="1" lang="ar-SA" sz="4000" spc="-1" strike="noStrike" u="sng">
                <a:solidFill>
                  <a:srgbClr val="00007d"/>
                </a:solidFill>
                <a:uFillTx/>
                <a:latin typeface="Comic Sans MS"/>
              </a:rPr>
              <a:t>التخفي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procedure for 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less concentrated solution from a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entrated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lution law: 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قانون التخفيف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300720" y="2637000"/>
            <a:ext cx="2523960" cy="3415320"/>
            <a:chOff x="6300720" y="2637000"/>
            <a:chExt cx="2523960" cy="34153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6300720" y="2637000"/>
              <a:ext cx="2523960" cy="20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550200" y="4696920"/>
              <a:ext cx="211716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wo KMn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solutions of different concent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26920" y="3645000"/>
                <a:ext cx="4392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4797360"/>
            <a:ext cx="220968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بل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98680" y="4869000"/>
            <a:ext cx="2210040" cy="647640"/>
          </a:xfrm>
          <a:prstGeom prst="borderCallout1">
            <a:avLst>
              <a:gd name="adj1" fmla="val -2033"/>
              <a:gd name="adj2" fmla="val -2541"/>
              <a:gd name="adj3" fmla="val 20483"/>
              <a:gd name="adj4" fmla="val -2541"/>
            </a:avLst>
          </a:prstGeom>
          <a:solidFill>
            <a:srgbClr val="9999ff"/>
          </a:solidFill>
          <a:ln w="316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التخف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7040" y="6132600"/>
            <a:ext cx="82040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units of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&amp; V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must be the same (ml or 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57120-83D2-4618-A404-B287B10555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8 p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How you would prepare 5.00 x 10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mL of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1.75 M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solution, starting with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8.61 M stock solution of H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637000"/>
            <a:ext cx="7056360" cy="25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75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5.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.61 M; V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11280" y="4508640"/>
                <a:ext cx="8064360" cy="19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l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-25200" y="13208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45920" y="404640"/>
            <a:ext cx="55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46440" y="1965240"/>
            <a:ext cx="68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70D39-8AF5-4E5C-8B30-DAB0076B08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640" y="2276640"/>
            <a:ext cx="6105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d of Chapter 4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rst Exa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s 1, 2, 3, &amp;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FCD98-16D5-4147-A42A-DAC23E8C23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4</a:t>
            </a:r>
            <a:br>
              <a:rPr sz="4000"/>
            </a:b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Reactions in Aqueous Solution </a:t>
            </a:r>
            <a:br>
              <a:rPr sz="3600"/>
            </a:br>
            <a:r>
              <a:rPr b="1" lang="en-GB" sz="3200" spc="-1" strike="noStrike">
                <a:solidFill>
                  <a:srgbClr val="00007d"/>
                </a:solidFill>
                <a:latin typeface="Comic Sans MS"/>
              </a:rPr>
              <a:t>Chang Pages 147-15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163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.60, 4.62, 4.64, 4.66, 4.70, 4.74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BD65B-94CE-4373-8F1A-E0B5F6142A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4: 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Reactions in Aqueous Solution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4.5 Concentra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Mo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Dilution of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A4F3A-6E0E-4EC0-80F1-5750117144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4.5 Concentration of Solutions:</a:t>
            </a:r>
            <a:br>
              <a:rPr sz="3600"/>
            </a:b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Molarity</a:t>
            </a: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he concentration of solution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amount of solute (solid or liquid) present in a given amount of solvent (liqui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most common unit to express the concentration is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olarity (M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number of moles of solute pe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itr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unit of molarity is mol/L = Molar 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348000" y="4221000"/>
                <a:ext cx="3548160" cy="16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larit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oles of solut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iters of solutio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8BACB-80F3-4F3A-A944-5489ED0564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Questions in Mo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419640" y="1101600"/>
                <a:ext cx="143964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042920" y="2349360"/>
            <a:ext cx="68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2349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83640" y="234936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0" y="3213000"/>
            <a:ext cx="2736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iven: n &amp;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3211560"/>
            <a:ext cx="2879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iven: n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3257640"/>
            <a:ext cx="273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Given:  V &amp;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95640" y="5516640"/>
                <a:ext cx="4032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M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66F62-E995-4FEA-9EEC-738E62A025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3560" y="811080"/>
            <a:ext cx="66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ing a Solution of Known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04_16"/>
          <p:cNvPicPr/>
          <p:nvPr/>
        </p:nvPicPr>
        <p:blipFill>
          <a:blip r:embed="rId1"/>
          <a:stretch/>
        </p:blipFill>
        <p:spPr>
          <a:xfrm>
            <a:off x="228600" y="1989000"/>
            <a:ext cx="868680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77DEC-3B3E-44D8-80B1-F6B7E1E6E0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6 p148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grams of potassium dichr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K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r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 are required to prepare a 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l solution whose concentration is 2.16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63700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 = 250 ml = 250 ml/1000 = 0.25 L; M = 2.16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059280" y="4143240"/>
                <a:ext cx="5976720" cy="26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 mol/L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 mo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mol x 2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 g/mo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9 g of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68360" y="256536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2C245-D95D-4BC3-9B21-251C3FE55E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4.7 p149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biochemical assay, a chemist needs to 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3.81 g of glucose to a reaction mixtur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volume in milliteres of a 2.53 M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solution she should use for the ad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2921040"/>
            <a:ext cx="8675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m = 3.81 g ; M = 2.53 mol/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 (L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(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92428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943280" y="4149720"/>
                <a:ext cx="6876720" cy="25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/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 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95336-0DA3-47AD-99E6-AE3C357CB0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3656160" y="2500200"/>
            <a:ext cx="1752480" cy="856080"/>
            <a:chOff x="3656160" y="2500200"/>
            <a:chExt cx="1752480" cy="856080"/>
          </a:xfrm>
        </p:grpSpPr>
        <p:sp>
          <p:nvSpPr>
            <p:cNvPr id="136" name=""/>
            <p:cNvSpPr/>
            <p:nvPr/>
          </p:nvSpPr>
          <p:spPr>
            <a:xfrm>
              <a:off x="3656160" y="2917440"/>
              <a:ext cx="1752480" cy="0"/>
            </a:xfrm>
            <a:prstGeom prst="line">
              <a:avLst/>
            </a:prstGeom>
            <a:ln w="38160">
              <a:solidFill>
                <a:srgbClr val="9999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5280" y="250020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33200" y="29574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99cc"/>
                  </a:solidFill>
                  <a:latin typeface="Arial"/>
                </a:rPr>
                <a:t>Add Sol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2678040" cy="3257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637240" y="1052640"/>
            <a:ext cx="2914560" cy="339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B8D7B-DB36-4828-AB6F-F0C2E91B9D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07T12:27:27Z</dcterms:modified>
  <cp:revision>500</cp:revision>
  <dc:subject/>
  <dc:title>General Chemistry CHEM 110</dc:title>
</cp:coreProperties>
</file>